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E14-1D10-4B25-BE09-EE5F3A3A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AAB-1F21-4282-B600-6CEB569C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332B9-4E48-42DA-8A8F-57F7047D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5B75F-4C92-4910-908E-B4D71836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D8626-715F-422E-AEF7-177D72E3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B33D0-FA6B-4F56-9CF3-58A7975B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ECA02-1618-47B6-94C0-D040A2F3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E0B80-1051-4359-AD21-AEC7380F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700D6-1DD8-4C91-8979-2FB64F7D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C26C4-3A77-4791-A7C4-D51EF522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E0436-F2F4-4CFF-AC35-2CE3AC2F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04E5C-AACE-4D5E-9200-126CD074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ACF-2A99-4E1E-8C86-6E249748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98F32-B8BF-41A9-A3BF-8FBEA7F1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4E630-DEC8-42B6-A964-C27FFB80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1D4B5-CB22-4C9B-8D97-674D443B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A42E4-67CC-43F6-9368-E35DFA6D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41BEE-5013-41AB-80B3-A13D070F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35EC4-98F9-4317-94AC-F081BCC2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58629-D555-4C3D-99C0-023C5C04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B35E1-587C-436D-B508-64FEEF7D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1558D-E341-4D79-9BB8-692802F7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9793F-15C2-4551-A8A0-108BBD2A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003-816C-4427-AEFA-6ADA6FFF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23890-358D-41A8-9E96-7975CC83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F4713-C3C8-4211-BBD6-317A10CD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4D5A1-FBF4-4052-9560-42F48760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71FD5-BE93-4BE1-9CA4-176CC8AB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26E51-D37F-439B-AA2C-5658A2B8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28CB4-055F-4791-816B-5AB04F1B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92D75-F962-4B51-99C9-FA24C506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F8658-138F-4C8F-A1C1-F165EF90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D6239-0408-4B21-8BB9-33C2BD4D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5A666-F3C2-44F4-B588-508E6E8F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904D-148F-4216-9C52-44AF8DE6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AF090-DBFD-4E3F-A60B-7C8D2C0D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553B3-A136-49C2-8A4F-EA6FC359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57A5B-E4B5-4166-B53E-DD4D57A2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07D5B-0B5D-444F-B52E-548D59FF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BC020-5E63-4DEC-9084-2A0D12BB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B6177-C835-44CC-96F3-31F9676A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C6491-0E96-4EB2-83B9-9FC4124D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BCEA2-683A-4A79-9B69-A416C01C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A340B-A75A-43EA-A4F8-573F8D06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4E3FA-F284-4CBE-BFD1-DE6848A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8AE2-A388-4FAC-8AEA-6EA20C3C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4F19C-2A45-4B9F-B32B-56BD1525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476DC-BC75-4DEA-A990-1AE8403F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AC1F9-9FCC-46F4-A3D2-E448D60F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E8A00-BA5B-4219-A509-03C15D61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D6D1E-AD00-41CE-ACAD-E9AE348E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45040-FAFA-4A55-AA8F-851E47B3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4103F-B3B7-4BA9-AC22-4D6F4435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6F75A-7D8E-4C5D-8E09-E6A4A6F7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2604B-69CF-412C-94F5-F29FF6D1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7B696-13DD-402C-A2D5-A9963F43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7D33-A588-4633-A11F-630984DC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A1FF1-1780-4B64-9096-45FBEE06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E1336-7C7E-4CB2-A8F1-66172B12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D6187-F875-426A-B684-8D525780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411C4-1D30-4F63-85C7-2C2E6DEE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87763-2819-447A-A7E8-AB51D00B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FB55E-616C-43C9-AE80-EBB87CA2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ADDCA-43A8-43FF-800A-CFD1D271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06945-6ECD-44BD-AD70-91ACF551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A6E53-3035-4440-9B94-26D4FC80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8FE05-C7BC-4328-A7EA-3A0345C1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6F61-9CCA-4A10-8BA9-FEEA9916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428C6-B715-4835-A675-A225EFA0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CA8C7-894A-480B-8148-17E22D8D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76279-834E-4BE5-8EAD-8B49EC2F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29F65-207D-41A7-BBD5-41F51B97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294FC-548C-44F1-A704-43232CF9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8D3CE8-DC0E-45E5-AC7A-5DF2A405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F64AC-29AF-4CA2-89C6-2942078B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55A80-7A8B-400A-A395-AB1BA213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54ADB-7662-40E1-885D-6679D8C6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E8EB5-3A99-448B-BD10-69727E72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8FF4-19FB-4193-B215-E5F858EB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C925D-8BA0-4A0D-9CB9-762DED63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25A0F-532C-4A4B-8F08-80D4F7D4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7656A-5E5E-40B5-8166-91ACA6C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F55DE0-8B72-48AC-9846-D7FC27ED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39146-5B5B-474D-94DF-5C6B8F36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AB969F-A301-407B-9F19-52680334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DED0B-009D-4073-A81E-37CE13CD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0C45F-58F5-4F07-AD82-72617B9D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6A0EF-BD63-4B0C-A0D9-33D3A4AB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E60BD-D4C6-4137-A392-EEBC3F75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F4A9-F6AC-4224-BA2E-0F982DA7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39FAB-3167-443B-BAE5-FD9BAC9B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2C156-C024-4854-9E71-C327A5AA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66B3E-5003-4E73-9B4B-9C21512A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61F3D-9988-459F-9069-EA2843FD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C8FB9-CA2D-4965-BE41-B640F41E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2F3EB-64E5-447F-A220-A26242FD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F0660-1993-47E7-AEA0-D9EB6C98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18423-4F3F-44AD-BDA5-772184B9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98145-E809-4623-831E-178D6AD7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0C787-6A71-4B02-A908-3A499330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4FAF-D2F2-4BC2-ADDF-FD90D273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E8909-0D95-415D-A6D8-1B625014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248FD-61FA-4023-A985-F8BD4653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8C146-CC0C-4A77-999E-BFDC44B7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B3866-B429-4B03-9448-D6F6848B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14E49-E798-464B-B5CE-8E24FBB0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EB2DE-7AEB-4EB1-8851-7332D10A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667BB7-410D-4BE3-A388-7B938D7F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0C354-E435-4B3E-8D0D-978F4A3E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E7B8BB-6428-49A2-A32A-591BE391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C37075-DC53-45C4-AA92-644B851F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F2D-C002-4BC4-A97C-115CAF79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FF5F-1741-4BA4-9A74-2EE3C2B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6BD85-059C-4F1B-9367-2D85370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BD8CB-57C7-40BE-BBC1-03FC07FC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4B032-08C8-4D16-ADE0-AEC8CC0D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39F90-1591-40AD-A4E5-654733F7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C5BEB-845B-4850-9154-EC487A0D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6595C1-84F2-45F3-992F-491B9192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769B9-6B87-46EF-A81D-EF838A40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92AD4-9E44-4650-B96D-B9917054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FC42D2-699E-48D6-AA67-6BA612CA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0FBF33-2E27-4B50-9111-8E89783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4CFD-D60C-4162-977B-D6D2C5D6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C54C9-22D6-485F-989E-1B12BA47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9A87F-ACB0-40C2-9218-5E013902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27D42C-CC9A-4B63-9181-0B72CEBC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F3915-0733-49E1-A131-694C3A1E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9D934B-7CC4-4F22-A217-15F5E7D2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D722C7-A9DC-4129-A092-7C148319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513B55-3DDF-493B-9B8D-421B9E6C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500764-A21B-4250-BD8D-9DB0AD4D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A8CCFD-B118-41B5-8257-B0C40432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CE17A6-8375-40DD-9E12-89E4824E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F1F7-D210-44C7-AF34-6CF33681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78A1B-9F3A-408B-9F46-B2F1D1CC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1CF3E-5188-4238-938F-DDA4489B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DF4B5F-F962-4D54-B663-94CABB95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AC42E-D716-412D-9306-BCB18B3C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EDCD1-BC23-4D98-977E-CA637722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2F50A8-C616-4A67-AC86-EF245A89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8BD30-7386-4EF2-86CA-AE7311EB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C6B5E-23CE-4C67-B6C8-7E06FE47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E66016-7661-4365-B76B-7B358E0A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ED7FFE-72F0-45E2-8C1B-2680AF0C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9C3D-2547-4AB2-A2B2-C09BDD56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A0B3E-B85C-4A33-BAB1-061F6F65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D0C28-6C62-469A-B7FC-DD8B80E5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90C435-BB2B-443F-91C7-B158EC2C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287EC2-EDF7-4276-BDFC-E8DC27A1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04E779-E0B5-4649-B1B4-9530D4EC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4C5D3C-CBDD-4E99-A07E-9E6FF719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C3659-820B-461B-816A-FE6EC8A0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68689-FC95-4C3F-BDE6-9E7195B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52A77D-78F4-4D9B-ACC4-A01EA5B9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81ECA-217C-465C-A380-537EF676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88A6-0266-4AB8-AFFD-1F0FC213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6FBAF7-613D-4D3C-B48D-D960884D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6B85EE-0507-4E41-B233-7B90693F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713741-1280-44F6-BE4C-AF278F3C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4774E-3563-4FB8-AC5D-FF7057F1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1AFF7A-3D4F-4B39-88DB-BA9BCC1F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16F459-2BFA-4467-BC49-241E4374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6E3000-E199-496D-8E2D-66136509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BA576-C74C-4A73-9F2D-96C25384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EB3B5-04EC-427A-96F1-C7B49EA7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8E1278-9F4C-4F08-A5EB-48041107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8EEC-DDCE-47D5-98EB-8124A90C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1E939-092F-453B-AD1A-BE8456DB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B0B86-EB98-4887-913B-2EA1A707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30116D-F5E0-4F36-AC6E-FC1446BB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E9FDC3-DAF1-4CDC-8B34-E9B8320C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7BA417-2391-4D9D-A685-4BAEC474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A0E377-ED2C-4FD6-A84F-6EB650B8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3A0F61-981C-4AE5-8F2C-5C7E8113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E09270-896C-42A3-A485-F9EFF262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2CB6DF-EE53-4A99-84D9-E54F20B4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95C543-8312-4950-8C26-0DCCB19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5C06-CDEA-4DCC-AC5B-B0DCC74E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095B49-1479-48E5-BC49-9E468366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8A7C9D-5872-4565-A51D-AF7E1E1C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2B75C0-E2DC-4BD6-B98A-8F142892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1E3ECC-CF9F-4E85-8D40-70F01DAA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73FD09-BA54-4FC2-B345-2B4C1856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407F30-C53E-4694-8D20-0ED6217B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297AB9-15B6-461C-8C64-F953F9CA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C362BD-1F6A-460D-85A9-B1B89AB6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F7FE43-E91C-46A0-A112-5AA8461C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DEB30E-4CEC-491E-90D7-DF5E04AF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78AD-D178-49E1-931B-B251F24C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0D957D-427A-4393-B362-23BFF90E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607E01-8B39-4B76-A58B-305CE71A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A419FA-E3B6-4809-A32D-BCDE1715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DC01D3-A9BC-4E3D-B26D-41B79DD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5B37B1-A6C4-4573-A4FC-E5B5C3CB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0A4C50-68FB-4326-969F-A440FB6B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DEDE2-F54C-4873-AD49-974E0B68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E32A65-3E8C-4F83-84E5-1C6A28BB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F27C04-BDC7-4AD2-8575-34123193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AE3266-3104-4C5C-9951-66080472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7EFA-CEF5-4EA3-AF4C-403BAF5C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4B8272-8993-43F9-A6A6-33C98841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B2CC7D-980F-411C-8EFB-9BE8C4D9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319903-9A56-41A6-8E26-524F9F3E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F3901F-5291-44E6-91E8-B0C04B79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EA9672-429A-4197-8E2D-2B526EAF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501BF9-237B-488B-968A-20CF47F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F040C7-FC3A-4D00-92B8-B36607F4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D5DF7B-D38E-4359-9615-5AC0B89D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9E856C-0354-4640-9808-A6BE5F5B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43B9AB-E923-4C03-9664-95B976DF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8CA9-B456-4B03-B286-ED168A54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F2FC6C-BC55-481A-9C99-792B1288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5DE7B2-9B3F-4A7A-A54A-9CF6765F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72D9BC-9723-430E-B238-898C8683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3DE911-CD1C-4EBA-8635-407CF203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4B68F9-5EC6-4703-ADE2-31A7101B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AFDFAC-3AE1-46B7-A966-0046BE3F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A96BDE-6FAC-4E69-A367-F8A94AA9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E005B9-B8DC-42D5-BEA6-47B858E6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FCD8EC-5CD6-4BB5-8A32-D3F0DA1A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97C019-0910-49D9-AD86-A7777F40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638-5488-4A08-9C6B-AA13C4D8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9A63-CAF5-4CFC-8D9F-7D674694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D76DE3-4352-4046-A874-2AB7777D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D1BE55-2BA6-4799-B432-BA87D75E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61008-B0E2-444A-B5F3-B2DCC781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F31734-95C1-4FED-810E-D798D2BD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7195CB-AE39-426D-AD2A-28B0F8E2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C90CFC-A538-4C5E-967F-7B11C2BA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60902E-2E3A-4661-A7F0-17A2CC62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FA5869-AEF7-4223-B3A6-E4C8CB8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A2FB19-1110-44E3-821A-D4470C8A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DC6F33-2100-4D24-93AC-E189CBA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6A91-15AF-44E7-A749-E5AB046F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972618-6C02-4FAE-80B2-933E500E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B7A1A8-A6FF-4CFF-A1DB-C7782BC7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D96BD5-8FC8-449A-BE72-FC6ADED8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C3DD66-D1FE-4CDD-8F8F-905B1C71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F2B2F7-77CD-478F-8D4E-C6D320F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F17B4D-4E8A-4A26-996F-8358DCE1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F01072-010E-4A9C-8898-4F5AB597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BFD453-4869-4AB4-926D-E175503F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3B39C0-D41A-4603-93DF-B35006C6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A78D21-070A-4811-8032-C3365238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FDE8-A031-4551-A9E0-671910BC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1987BB-A7F0-48FD-8642-CFD80CE7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8189A2-3C7A-421F-A86A-E0680BFF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5F5202-5C6B-42A1-B19A-B26AB861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6AC6CD-6EB0-42A9-984A-49C58C57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68007C-556A-4284-8E1F-265880BE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E2AD51-E33B-4378-BA76-99DE793D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1EF6B3-5904-441F-9738-C3E320C8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521307-6226-4A6D-AD94-EBE0C1BD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D2EB92-4C55-423C-B44B-73B13E1E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E54805-5201-4795-965F-E591CD95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7464-A2F7-4962-B70C-46D87EBB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2AEBDE-5522-43A8-9B77-702C42F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7DAB21-624F-4FFC-9256-6A37A37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716E27-651D-4682-9D6A-B2011BA6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CAD516-10D8-4496-906A-3B27766E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603A62-00EC-4068-8786-21E4DE79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3C92EC-339E-42E5-ABF6-89FBC827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B97436-FE74-4250-A93E-745AD916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BC4204-C6E2-437B-B25C-789B9382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ABCA77-1CD3-4826-B8C8-13EBF715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F88F20-7795-4C34-A842-EE17C468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5E51-0166-449C-979E-4BE6C894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F00908-C4EF-4C57-BB4B-FB105AEF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62DC63-DB6F-47B3-A08E-04B13D5A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664DBC-415E-4B08-93F7-A31A065C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0E7D99-3C81-4D5C-BAE1-644C07D5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D05676-6F1E-4144-900B-45BE633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017227-4F1E-4554-AFFE-B74F4D2D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748941-8AEF-496D-A524-1F1BAF8E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9D39F6-2C93-43D6-B3F7-A820DF24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F97932-030B-4C3F-8E62-61292668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1E3067-D85C-47EE-A660-E11AA71A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6F98-D541-42E9-BAA9-3A357ECC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03A843-793A-4528-8761-E991DF17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9BA13B-78B2-46FD-911E-E62B5302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654C50-3B58-459E-8CC9-67CC6E47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FE9E96-D0E4-4850-84B0-35B7180F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49E56C-79FD-49A2-B660-66084477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9AE59E-5236-4B28-A76F-AC9BB14A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46E84A-40C1-4D26-A500-B9E11DA4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7972CC-9AF8-41D5-AB44-6F96D9ED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9669E3-5C93-4668-B0C3-875D832A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3991B4-62B2-4347-9810-DA9E6A87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9299-FA31-40A9-88E2-8FFB1D4B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472F82-8FF7-4E5F-92F0-09EB7930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017525-97DF-41B2-B3CB-C7967898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2CF595-8C6B-491F-8233-3FEE6449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FE2CC6-E33C-4EFA-947C-B95B9119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43F71B-F7F7-40A8-951E-9B63E2B6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175E70-8794-4781-9B28-45146BA2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B86339-528B-4701-8CDE-945C03C8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EF8130-653D-4CA5-B8A5-6B6A35BC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7C6C74-F732-49EC-B9A9-70053674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42715D-6534-4DC4-BD9B-863475F9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93A2-2D55-4BB0-A059-647B6100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8D5F2A-1D15-4691-8C56-99BD5061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AA3449-1CC7-4F71-B7F9-84CEC7C6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2F0C0D-F7BD-4707-9C32-4A106E5E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6CDBA-2346-4841-98A1-12B2C919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1841-46C6-4570-BD43-401FCF29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873-59F1-44D5-A117-B54994EB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97691-415F-435D-B173-939C0D71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AE83-C95F-40D1-ADEC-30329174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2686-1B5F-4AEA-981B-25969783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EB33A-FCE1-4775-A6C5-ACCEA366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982B-4A49-47BA-B5D6-3E1A468B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D33E4-A37C-4849-A5FF-6667DB9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F8DED-BD8D-4AC3-B994-12280981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47AB-34A6-49BD-8FD7-19D42BE3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9FF7-F93C-41F7-ACA3-A8EA473B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12DA-03E7-4BC5-B3AA-7FF6D260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0C4-24FD-4705-A14F-0966B432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9D3B1-6BF0-45B1-9EE8-8477730A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7B79-6D53-4B35-A6CD-FDEE3696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30EF-7A34-49A4-867A-746DF400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2C633-66A2-40F3-97EF-7F63B5B7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BC1E0-720E-48E6-AFC5-3FEC0E4A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B7B4F-772D-44A1-8261-0715EB44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47CA9-03A7-4D5E-B8BA-39A550E6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34606-3E33-4C4F-BB33-20DF14D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839F-0DD5-40B7-8E65-2F9EF216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3D244-C139-445E-8964-E11E6E13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165-BEB2-4EC1-AAD8-00BBDC7C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159F5-68E7-4998-823F-ECBB8350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54871-9EC1-4280-AFFC-01A1B658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BD14C-D821-45A9-9B2C-017B547D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26FA-8420-4C9A-967C-A081A41E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1F742-4EDD-4158-8FC4-6DB8CA4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C49F8-40AB-4BC5-A43F-D6F97CB3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0FD63-BA1B-4A16-A02F-8C370734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9AEC2-D6AC-494A-9E39-4C786A38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E5220-CDA7-47A1-B479-64C53E6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EEDE4-061E-45E4-BD86-0373060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B23-25CD-405A-A976-561CBAF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5816F-5E47-4F81-A973-C86818F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4E7A3-51F5-4A57-9A91-D747CA23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F4411-0A92-4865-B943-6F2AE384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4B8EF-C6EF-4BA6-85BB-8B9C012F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83222-79D3-427B-9B28-CB325E6A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5AE61-7025-46F1-847B-0A8305E7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3619-F4A9-45B0-A23A-617B1DB4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59EF7-A958-4874-B5D1-659DDAE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74368-F941-487C-B9AE-6F3A862B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15829-7C4D-454D-9664-8612B815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ED7-A913-461A-891C-41E26E4A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EAB0A-9AF9-4960-86EE-12150DF5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7F628-2FC6-4DA6-9398-0575866C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2BC68-7B14-48A3-827C-87C404C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7C589-FBFF-466B-9DD3-162B1388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C34A6-9868-4104-A5DD-3C4DB2E0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396DF-2A24-453D-B7B4-85EE666B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ACA67-DED2-4871-B876-D956D6C0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4561A-21F8-4AC8-A529-DE6F47CC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82488-C951-4760-8217-20744048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0FC11-00DE-4EF8-B378-CA69EC9F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AD6-EDE0-43C7-882D-141589F5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8E105-D305-467B-AEA0-8F52DB75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8DD04-24E8-4B67-8B8D-CCED4750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90BDC-157A-4A3F-B663-CDEB014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B99E3-83A6-4FF8-9E5B-3B98AD0C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46635-89E3-4F24-8C6B-20F11C73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BA194-2BCB-49E0-9251-3E123B4E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A297C-BADB-4CAC-B0B8-F335E9FE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C8A2A-6626-4A8F-BB98-E962240C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B16BA-5E57-4124-B7BB-5B55EBD2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B246A-CF99-47E6-9F33-C604DE78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D85A-C9AF-40E5-9249-604598C8D2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8A9F-89A6-410C-85E9-3629B40D15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2A75-6E9E-4242-B7B1-3E5342ABB7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7B4A-3B4A-4E16-AC72-B2F67B4C73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C273-2662-488D-A737-402A1E4024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DE49-F674-4341-80D6-4885E168FD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4549-5906-4029-B12D-3B4FC29381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ED3C-831E-4B90-A1CB-4C959E004F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6297-F708-4719-A65A-996B7AACE9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2C17-E800-4CDD-91D2-5DCCB168B7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93EE-A632-4771-B699-4EB93F1396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0582-216F-4A77-96AE-8FD7DA0E2F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6F4C-E796-4BF6-B2F5-2C668E8F49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C7A7-9BC9-4C8A-A9F8-AA90785C80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C6C6-E68E-4CFF-8293-1D3D91B95E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9794-AFFF-4CD5-9EFA-C541EA697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5064-8E8E-400A-9988-1D59391270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979A-D07B-4286-B31B-36B41BCB00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BFDD-F16A-461A-A772-74CA5B8BD0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4FE6-54FB-4CB3-AFA7-AEB54538D9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DD0C-FA46-4168-B4EA-FA0A027688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236C-9F78-4A0F-B262-F6E2BD625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B90E-CF2F-408B-8C48-E194B5606E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4C61-A5BA-41F7-8002-22B95BD907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E0A0-C0FA-4984-901C-9CFAFBCB9C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A7EF-879A-4068-BED6-8625EAEED1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7D02-F1D6-494E-889F-D78B29513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FC31-8875-4CF0-A8D6-E215D7BB51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91EC-A930-48FA-87F0-B7C279E83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9517-43FF-417B-A506-0C7D41714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61AD-30AF-4F7F-8606-F3F3F29342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C020-C247-476C-82F4-CD616BD8DC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403C-2E3D-454F-BE9B-E2C3833323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575E-C834-45B4-824D-095D47A1F0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07EB-0602-4586-AD1C-8D6F307D11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B784-020F-46B9-B205-FD24CE98EF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5BA2-F9BA-4D21-A4CE-59430B0C5B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D41D-8CB5-4F96-BE87-60A3EADB2F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121C-9382-4D79-A9E0-E42B43F33C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B2C6-95A8-4209-B9BB-30B89038FF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B3E3-EF42-432B-9489-A8ECC706BF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0A7C-8778-407C-8CA1-B2295EB7F2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3C45-0B2D-47C8-8754-635C591210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C638-7F38-4798-9722-2229667D48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D8D4-8AB7-422A-B925-1279B7B94E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24DE-B7CC-47D0-BE35-9C9967F452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6C8B-2013-4EA2-A74F-71B5F7C4E8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59F8-25EC-487B-B54E-C6C48044D3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BD57-E278-4E77-9AD2-258292BCC0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2B77-4E9B-4C4A-B4D2-85BA65EC1E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147760" y="1079640"/>
            <a:ext cx="4467240" cy="53316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73080" y="2440080"/>
            <a:ext cx="8134200" cy="408600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1859040" y="3618000"/>
            <a:ext cx="50472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4098960" y="3618000"/>
            <a:ext cx="50472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6276960" y="3618000"/>
            <a:ext cx="50472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3193920" y="4203720"/>
            <a:ext cx="5050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40990"/>
          <p:cNvSpPr/>
          <p:nvPr/>
        </p:nvSpPr>
        <p:spPr>
          <a:xfrm>
            <a:off x="4253040" y="420372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40991"/>
          <p:cNvSpPr/>
          <p:nvPr/>
        </p:nvSpPr>
        <p:spPr>
          <a:xfrm>
            <a:off x="5424480" y="420372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40992"/>
          <p:cNvSpPr/>
          <p:nvPr/>
        </p:nvSpPr>
        <p:spPr>
          <a:xfrm>
            <a:off x="6667560" y="420372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40993"/>
          <p:cNvSpPr/>
          <p:nvPr/>
        </p:nvSpPr>
        <p:spPr>
          <a:xfrm>
            <a:off x="3328920" y="484020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40994"/>
          <p:cNvSpPr/>
          <p:nvPr/>
        </p:nvSpPr>
        <p:spPr>
          <a:xfrm>
            <a:off x="6504120" y="484020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40995"/>
          <p:cNvSpPr/>
          <p:nvPr/>
        </p:nvSpPr>
        <p:spPr>
          <a:xfrm>
            <a:off x="7027920" y="5435640"/>
            <a:ext cx="11113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40996"/>
          <p:cNvSpPr/>
          <p:nvPr/>
        </p:nvSpPr>
        <p:spPr>
          <a:xfrm>
            <a:off x="576360" y="603252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图片 140289" descr=""/>
          <p:cNvPicPr/>
          <p:nvPr/>
        </p:nvPicPr>
        <p:blipFill>
          <a:blip r:embed="rId1"/>
          <a:stretch/>
        </p:blipFill>
        <p:spPr>
          <a:xfrm>
            <a:off x="179280" y="861840"/>
            <a:ext cx="8048880" cy="5820120"/>
          </a:xfrm>
          <a:prstGeom prst="rect">
            <a:avLst/>
          </a:prstGeom>
          <a:ln w="0">
            <a:noFill/>
          </a:ln>
        </p:spPr>
      </p:pic>
      <p:sp>
        <p:nvSpPr>
          <p:cNvPr id="1345" name="矩形 140290"/>
          <p:cNvSpPr/>
          <p:nvPr/>
        </p:nvSpPr>
        <p:spPr>
          <a:xfrm>
            <a:off x="7508880" y="20653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291"/>
          <p:cNvSpPr/>
          <p:nvPr/>
        </p:nvSpPr>
        <p:spPr>
          <a:xfrm>
            <a:off x="7508880" y="38624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图片 139265" descr=""/>
          <p:cNvPicPr/>
          <p:nvPr/>
        </p:nvPicPr>
        <p:blipFill>
          <a:blip r:embed="rId1"/>
          <a:stretch/>
        </p:blipFill>
        <p:spPr>
          <a:xfrm>
            <a:off x="252360" y="907920"/>
            <a:ext cx="8105760" cy="4457880"/>
          </a:xfrm>
          <a:prstGeom prst="rect">
            <a:avLst/>
          </a:prstGeom>
          <a:ln w="0">
            <a:noFill/>
          </a:ln>
        </p:spPr>
      </p:pic>
      <p:sp>
        <p:nvSpPr>
          <p:cNvPr id="1348" name="矩形 139266"/>
          <p:cNvSpPr/>
          <p:nvPr/>
        </p:nvSpPr>
        <p:spPr>
          <a:xfrm>
            <a:off x="7613640" y="99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图片 138241" descr=""/>
          <p:cNvPicPr/>
          <p:nvPr/>
        </p:nvPicPr>
        <p:blipFill>
          <a:blip r:embed="rId1"/>
          <a:stretch/>
        </p:blipFill>
        <p:spPr>
          <a:xfrm>
            <a:off x="368280" y="822240"/>
            <a:ext cx="8077320" cy="531504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8242"/>
          <p:cNvSpPr/>
          <p:nvPr/>
        </p:nvSpPr>
        <p:spPr>
          <a:xfrm>
            <a:off x="7655040" y="9144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3"/>
          <p:cNvSpPr/>
          <p:nvPr/>
        </p:nvSpPr>
        <p:spPr>
          <a:xfrm>
            <a:off x="2527200" y="2732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4"/>
          <p:cNvSpPr/>
          <p:nvPr/>
        </p:nvSpPr>
        <p:spPr>
          <a:xfrm>
            <a:off x="4797360" y="2732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5"/>
          <p:cNvSpPr/>
          <p:nvPr/>
        </p:nvSpPr>
        <p:spPr>
          <a:xfrm>
            <a:off x="6996240" y="2732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8246"/>
          <p:cNvSpPr/>
          <p:nvPr/>
        </p:nvSpPr>
        <p:spPr>
          <a:xfrm>
            <a:off x="2577960" y="333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8247"/>
          <p:cNvSpPr/>
          <p:nvPr/>
        </p:nvSpPr>
        <p:spPr>
          <a:xfrm>
            <a:off x="5310360" y="333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8248"/>
          <p:cNvSpPr/>
          <p:nvPr/>
        </p:nvSpPr>
        <p:spPr>
          <a:xfrm>
            <a:off x="7715160" y="333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9"/>
          <p:cNvSpPr/>
          <p:nvPr/>
        </p:nvSpPr>
        <p:spPr>
          <a:xfrm>
            <a:off x="4673520" y="4518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8250"/>
          <p:cNvSpPr/>
          <p:nvPr/>
        </p:nvSpPr>
        <p:spPr>
          <a:xfrm>
            <a:off x="1817640" y="5165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51"/>
          <p:cNvSpPr/>
          <p:nvPr/>
        </p:nvSpPr>
        <p:spPr>
          <a:xfrm>
            <a:off x="5300640" y="5165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52"/>
          <p:cNvSpPr/>
          <p:nvPr/>
        </p:nvSpPr>
        <p:spPr>
          <a:xfrm>
            <a:off x="7715160" y="5165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7217" descr=""/>
          <p:cNvPicPr/>
          <p:nvPr/>
        </p:nvPicPr>
        <p:blipFill>
          <a:blip r:embed="rId1"/>
          <a:stretch/>
        </p:blipFill>
        <p:spPr>
          <a:xfrm>
            <a:off x="428760" y="860400"/>
            <a:ext cx="8134200" cy="165744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137218" descr=""/>
          <p:cNvPicPr/>
          <p:nvPr/>
        </p:nvPicPr>
        <p:blipFill>
          <a:blip r:embed="rId2"/>
          <a:stretch/>
        </p:blipFill>
        <p:spPr>
          <a:xfrm>
            <a:off x="903240" y="2575080"/>
            <a:ext cx="7591320" cy="3943080"/>
          </a:xfrm>
          <a:prstGeom prst="rect">
            <a:avLst/>
          </a:prstGeom>
          <a:ln w="0">
            <a:noFill/>
          </a:ln>
        </p:spPr>
      </p:pic>
      <p:sp>
        <p:nvSpPr>
          <p:cNvPr id="1363" name="矩形 137219"/>
          <p:cNvSpPr/>
          <p:nvPr/>
        </p:nvSpPr>
        <p:spPr>
          <a:xfrm>
            <a:off x="7765920" y="3257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6193" descr=""/>
          <p:cNvPicPr/>
          <p:nvPr/>
        </p:nvPicPr>
        <p:blipFill>
          <a:blip r:embed="rId1"/>
          <a:stretch/>
        </p:blipFill>
        <p:spPr>
          <a:xfrm>
            <a:off x="363600" y="835200"/>
            <a:ext cx="8163000" cy="348588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6194"/>
          <p:cNvSpPr/>
          <p:nvPr/>
        </p:nvSpPr>
        <p:spPr>
          <a:xfrm>
            <a:off x="7694640" y="1490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135169" descr=""/>
          <p:cNvPicPr/>
          <p:nvPr/>
        </p:nvPicPr>
        <p:blipFill>
          <a:blip r:embed="rId1"/>
          <a:stretch/>
        </p:blipFill>
        <p:spPr>
          <a:xfrm>
            <a:off x="264960" y="793800"/>
            <a:ext cx="8182080" cy="4457520"/>
          </a:xfrm>
          <a:prstGeom prst="rect">
            <a:avLst/>
          </a:prstGeom>
          <a:ln w="0">
            <a:noFill/>
          </a:ln>
        </p:spPr>
      </p:pic>
      <p:sp>
        <p:nvSpPr>
          <p:cNvPr id="1367" name="矩形 135170"/>
          <p:cNvSpPr/>
          <p:nvPr/>
        </p:nvSpPr>
        <p:spPr>
          <a:xfrm>
            <a:off x="3513240" y="844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5171"/>
          <p:cNvSpPr/>
          <p:nvPr/>
        </p:nvSpPr>
        <p:spPr>
          <a:xfrm>
            <a:off x="5197320" y="844560"/>
            <a:ext cx="484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5172"/>
          <p:cNvSpPr/>
          <p:nvPr/>
        </p:nvSpPr>
        <p:spPr>
          <a:xfrm>
            <a:off x="7016760" y="844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5173"/>
          <p:cNvSpPr/>
          <p:nvPr/>
        </p:nvSpPr>
        <p:spPr>
          <a:xfrm>
            <a:off x="2660760" y="1398600"/>
            <a:ext cx="1058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5174"/>
          <p:cNvSpPr/>
          <p:nvPr/>
        </p:nvSpPr>
        <p:spPr>
          <a:xfrm>
            <a:off x="4776840" y="1398600"/>
            <a:ext cx="1058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图片 134145" descr=""/>
          <p:cNvPicPr/>
          <p:nvPr/>
        </p:nvPicPr>
        <p:blipFill>
          <a:blip r:embed="rId1"/>
          <a:stretch/>
        </p:blipFill>
        <p:spPr>
          <a:xfrm>
            <a:off x="260280" y="890640"/>
            <a:ext cx="7962840" cy="1724040"/>
          </a:xfrm>
          <a:prstGeom prst="rect">
            <a:avLst/>
          </a:prstGeom>
          <a:ln w="0">
            <a:noFill/>
          </a:ln>
        </p:spPr>
      </p:pic>
      <p:sp>
        <p:nvSpPr>
          <p:cNvPr id="1373" name="矩形 134146"/>
          <p:cNvSpPr/>
          <p:nvPr/>
        </p:nvSpPr>
        <p:spPr>
          <a:xfrm>
            <a:off x="1089000" y="2136600"/>
            <a:ext cx="534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图片 133121" descr=""/>
          <p:cNvPicPr/>
          <p:nvPr/>
        </p:nvPicPr>
        <p:blipFill>
          <a:blip r:embed="rId1"/>
          <a:stretch/>
        </p:blipFill>
        <p:spPr>
          <a:xfrm>
            <a:off x="214200" y="866880"/>
            <a:ext cx="8258400" cy="5810040"/>
          </a:xfrm>
          <a:prstGeom prst="rect">
            <a:avLst/>
          </a:prstGeom>
          <a:ln w="0">
            <a:noFill/>
          </a:ln>
        </p:spPr>
      </p:pic>
      <p:sp>
        <p:nvSpPr>
          <p:cNvPr id="1375" name="矩形 133122"/>
          <p:cNvSpPr/>
          <p:nvPr/>
        </p:nvSpPr>
        <p:spPr>
          <a:xfrm>
            <a:off x="841320" y="266076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3123"/>
          <p:cNvSpPr/>
          <p:nvPr/>
        </p:nvSpPr>
        <p:spPr>
          <a:xfrm>
            <a:off x="841320" y="326700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3124"/>
          <p:cNvSpPr/>
          <p:nvPr/>
        </p:nvSpPr>
        <p:spPr>
          <a:xfrm>
            <a:off x="841320" y="383076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3125"/>
          <p:cNvSpPr/>
          <p:nvPr/>
        </p:nvSpPr>
        <p:spPr>
          <a:xfrm>
            <a:off x="841320" y="448776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3126"/>
          <p:cNvSpPr/>
          <p:nvPr/>
        </p:nvSpPr>
        <p:spPr>
          <a:xfrm>
            <a:off x="841320" y="506268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3127"/>
          <p:cNvSpPr/>
          <p:nvPr/>
        </p:nvSpPr>
        <p:spPr>
          <a:xfrm>
            <a:off x="841320" y="5689440"/>
            <a:ext cx="763452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3128"/>
          <p:cNvSpPr/>
          <p:nvPr/>
        </p:nvSpPr>
        <p:spPr>
          <a:xfrm>
            <a:off x="841320" y="628488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36:21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